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F00CE1-3D37-4E34-99F3-3E5266CCB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ТСКИЙ АУТИЗМ, его клинические симптомы и современная классифик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ИЙ ДЕТСКИЙ АУТИЗМ, его клинические симптомы и современная классифик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 клинические  симптомы 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ее  начало  заболе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 контакта  с  матер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ное  аутистическое  пове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 стереотип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авномерное  созревание  всех  функциональных  сф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 становления 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новные  клинические  симптомы 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ее  начало  заболе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рушение  контакта  с  матерь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ное  аутистическое  повед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личие  стереотип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равномерное  созревание  всех  функциональных  сф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обенности  становления  ре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нико – психологическая  классиф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С.Никольской (1985 – 1987) выделены  четыре  основные  группы  Р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 критерии  данной  классифик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  и  степень  нарушений  взаимодействия  с  внешней  сред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  и  степень  первичных  расстр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инико – психологическая  класс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.С.Никольской (1985 – 1987) выделены  четыре  основные  группы  Р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новные  критерии  данной  классифик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  и  степень  нарушений  взаимодействия  с  внешней  сред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  и  степень  первичных  рас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аутизм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икольская О.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форма – полная отрешенность от происходящег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форма – активное отверж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 форма – захваченность аутистическими интерес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ая форма – чрезвычайная трудность организации общения и взаимодейст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ассификация аутизм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(Никольская О.С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рвая форма – полная отрешенность от происходящего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торая форма – активное отвержени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етья форма – захваченность аутистическими интересам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твертая форма – чрезвычайная трудность организации общения и взаимодейств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сть организовать ребенка: поймать взгляд, добиться ответной улыбки, получить отклик на зов, обратить его внимание на инструкцию, добиться выполнения пор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рв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сутствие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возможность организовать ребенка: поймать взгляд, добиться ответной улыбки, получить отклик на зов, обратить его внимание на инструкцию, добиться выполнения пор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второй группы более активн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ть менее ранимы в контактах со ср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уща избирательность в одежде, еде, вку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ть проще действуя их же руками, задавая извне готовые инстру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тор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и второй группы более активны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уть менее ранимы в контактах со сред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суща избирательность в одежде, еде, вкус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бучать проще действуя их же руками, задавая извне готовые инструк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ей третьей группы легче всего отличить по внешним проявлениям: лицо ребенка хранит выражение энтузиазма, блестящие глаза, застывшая улыбка, говорит быстро и без смы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дети выглядят уже не отрешенными, а скорее сверхзахваченными своими собственными стойкими интересами, проявляющимися в стереотип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яет экстремальную конфлик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образие таких детей особенно проявляется в их речи ( многословие, большой словарный запас), не учитывая присутствие собесе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еть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ей третьей группы легче всего отличить по внешним проявлениям: лицо ребенка хранит выражение энтузиазма, блестящие глаза, застывшая улыбка, говорит быстро и без смыс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акие дети выглядят уже не отрешенными, а скорее сверхзахваченными своими собственными стойкими интересами, проявляющимися в стереотипной фор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оявляет экстремальную конфликт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воеобразие таких детей особенно проявляется в их речи ( многословие, большой словарный запас), не учитывая присутствие собесед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легкий вариант аут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азвитость самих форм общения, аграмматичность 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сосредоточения и организации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нтизм, повышенное  пристрастие к по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в це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тношения с миром ребенок стремится строить через взрослого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тверт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иболее легкий вариант аутиз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развитость самих форм общения, аграмматичность 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удности сосредоточения и организации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дантизм, повышенное  пристрастие к поряд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адержка психического развития в цел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се отношения с миром ребенок стремится строить через взрослого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5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чины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Факторы, которые могут вызвать врожденные дефекты – ре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Химические вещества, такие как тяжелые металлы, пестициды, вакцины - весьма спо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е развитие (сенсорные лишения, питание / диета) – лишь в некоторых случа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чины 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- Факторы, которые могут вызвать врожденные дефекты – ре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- Химические вещества, такие как тяжелые металлы, пестициды, вакцины - весьма спор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граниченное развитие (сенсорные лишения, питание / диета) – лишь в некоторых случа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АННЕГО ДЕТСКОГО АУ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РАННЕГО ДЕТСКОГО АУТИЗ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исты-знат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5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утисты-знат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5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забол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тереотипность поведения (стремление к постоянству, сверхпристрастие к различным объектам, сопротивление изменениям в окружающе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еобычные реакции на раздражители (дискомфорт или поглощенность впечатления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Раннее проявление – до 30-го месяц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писание заболе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2. Стереотипность поведения (стремление к постоянству, сверхпристрастие к различным объектам, сопротивление изменениям в окружающем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. Необычные реакции на раздражители (дискомфорт или поглощенность впечатлениям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5. Раннее проявление – до 30-го месяц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общих расстройств психологического развития по МКБ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ассификация общих расстройств психологического развития по МКБ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 аутизм (F 84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альчиков встречается в 3 – 4 раза ча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ипичный аутизм (F 84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ский  аутизм (F 8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У мальчиков встречается в 3 – 4 раза ча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типичный аутизм (F 84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етта (F 84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Ретта (F 84.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дезинтегративные расстройства детского возраста (F 84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ерактивные расстройства, сочетающиеся с умственной отсталостью и стереотипными движениями (F 84.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ки характеризуются названием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ругие дезинтегративные расстройства детского возраста (F 84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Гиперактивные расстройства, сочетающиеся с умственной отсталостью и стереотипными движениями (F 84.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знаки характеризуются названием заболе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Аспергера (F 84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Аспергера (F 8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B3AC-EAA3-480D-A1C7-9D3E25DA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089C-66BB-42C5-8223-1F0B2FEF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8ED-4782-4E88-B603-1C73898D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BC4-3970-4F09-8833-FF848F38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931C-FE6B-4AFC-AAAB-2AE38423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384A-A6C8-43A7-8F64-B7D49AC2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0E7D-1968-4F49-8E0C-0ABE7F91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7E53-606E-4DB0-8920-25DF973B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64FA-CDD4-468F-A207-AD6806F8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D3FA-7552-48E1-B708-DAEBAF69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E993-916E-400A-BAD4-60F7D02D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B3AF-1570-4C41-A321-8475133F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4EB2-867B-4223-AD1F-EAB30AC2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F1F5-CEBA-4408-82D0-8D962483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BB8A-B67B-4F62-89AF-4DBB1345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AD78-A950-472E-8965-46931A61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8DF2-8116-4673-9673-A113A29F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53B9D-8E05-4E69-A596-B3EAB841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75D13-4136-43BE-853F-6A11F4C8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C143C-48A7-44B6-88E2-013DBD32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176D6-04F5-405B-9D89-A4FC5E3F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41F9-3E72-465C-A598-25AE8384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A95C-1C38-4232-A593-560A27B0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F559-D361-4DB9-8DF5-2F1A40B3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C8D1C-F42A-4D07-87DC-B728C680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AC71D-1AA3-4201-A4A9-A12AF4B5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77086-833F-4CFB-8D44-FEFFBAFB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96B8F-09F2-4C40-B469-48CC11A9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1F8D-D39B-433E-A484-B51177F3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A1487-D176-4A13-9C79-2C671691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FCFCB-3BEF-4BA3-90C1-4ADDC7D7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B18C5-9362-4E96-A67B-070B547F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83C3D-0804-4C08-9DC1-0808AD13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46D-0BCE-4490-8243-C4482FC1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6DE0E-C19D-4B19-92FF-6D8A3E7D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591F2-D0DB-47EE-952B-21D732AA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2C2E5-787A-473C-9BA8-53B13375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B9BA6-563D-4CBC-B2C4-915668E5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B3F23-EF36-4DFC-BE5D-18C4B585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AEFB2-82E4-4E2A-8F58-B8E494D3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49981-726B-4CFC-89E3-22EA9448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37466-A54A-419F-98FA-B780093E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C348E-B555-4362-962A-7152265B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2BD-D8EC-44E2-ACA0-3D304641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B3F-623D-4D48-BDA8-AC3ED4A9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A32-4B10-4491-8EB1-A9F05375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6FA-F451-479F-8A7B-83CA1BD3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9644-07F5-45D8-BCD0-1ADF2A14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F9922E-2737-41C4-B2DD-0CA2FE7F7C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6D7E58-0D97-4019-89FE-D01B2F9473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E45BA1-A456-4BEE-83F2-515886FB9D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28532C-A693-4B48-8F06-4487E626CD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0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АННИЙ ДЕТСКИЙ АУТИЗМ</a:t>
            </a: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его клинические симптомы и современная классификация.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large_140948"/>
          <p:cNvPicPr/>
          <p:nvPr/>
        </p:nvPicPr>
        <p:blipFill>
          <a:blip r:embed="rId1"/>
          <a:stretch/>
        </p:blipFill>
        <p:spPr>
          <a:xfrm>
            <a:off x="1981080" y="3581280"/>
            <a:ext cx="5681160" cy="2852280"/>
          </a:xfrm>
          <a:prstGeom prst="rect">
            <a:avLst/>
          </a:prstGeom>
          <a:ln w="9525">
            <a:noFill/>
          </a:ln>
        </p:spPr>
      </p:pic>
      <p:sp>
        <p:nvSpPr>
          <p:cNvPr id="173" name="AutoShape 4">
            <a:hlinkClick r:id="" action="ppaction://hlinkshowjump?jump=previousslide"/>
          </p:cNvPr>
          <p:cNvSpPr/>
          <p:nvPr/>
        </p:nvSpPr>
        <p:spPr>
          <a:xfrm>
            <a:off x="0" y="6784920"/>
            <a:ext cx="69480" cy="72720"/>
          </a:xfrm>
          <a:prstGeom prst="actionButtonBackPrevious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>
            <a:off x="9074160" y="6742080"/>
            <a:ext cx="69480" cy="115560"/>
          </a:xfrm>
          <a:prstGeom prst="actionButtonForwardNext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6">
            <a:hlinkClick r:id="rId2" action="ppaction://hlinksldjump"/>
          </p:cNvPr>
          <p:cNvSpPr/>
          <p:nvPr/>
        </p:nvSpPr>
        <p:spPr>
          <a:xfrm>
            <a:off x="0" y="0"/>
            <a:ext cx="69480" cy="72720"/>
          </a:xfrm>
          <a:prstGeom prst="actionButtonHome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571680"/>
            <a:ext cx="8229240" cy="555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4" descr="DSC_0286"/>
          <p:cNvPicPr/>
          <p:nvPr/>
        </p:nvPicPr>
        <p:blipFill>
          <a:blip r:embed="rId1"/>
          <a:stretch/>
        </p:blipFill>
        <p:spPr>
          <a:xfrm>
            <a:off x="285840" y="357120"/>
            <a:ext cx="8679960" cy="5785920"/>
          </a:xfrm>
          <a:prstGeom prst="rect">
            <a:avLst/>
          </a:prstGeom>
          <a:ln w="9525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новные  клинические  симптомы  РД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Раннее  начало  заболевания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рушение  контакта  с  матерью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ное  аутистическое  поведение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личие  стереотипий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еравномерное  созревание  всех  функциональных  сфер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обенности  становления  речи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Клинико – психологическая  классификация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.С.Никольской (1985 – 1987) выделены  четыре  основные  группы  РДА.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новные  критерии  данной  классификации: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  и  степень  нарушений  взаимодействия  с  внешней  средой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  и  степень  первичных  расстройств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аутизма </a:t>
            </a:r>
            <a:br>
              <a:rPr sz="4000"/>
            </a:b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(Никольская О.С.)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ерв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полная отрешенность от происходящего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тор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активное отвержение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Треть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захваченность аутистическими интересами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Четверт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чрезвычайная трудность организации общения и взаимодействия.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83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ерв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240" cy="536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тсутствие реч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евозможность организовать ребенка: поймать взгляд, добиться ответной улыбки,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лучить отклик на зов, обратить его внимание на инструкцию, добиться выполнения поручения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тор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ти второй группы более активны  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уть менее ранимы в контактах со средой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исуща избирательность в одежде, еде, вкусах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Обучать проще действуя их же руками, задавая извне готовые инструкции 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еть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тей третьей группы легче всего отличить по внешним проявлениям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: лицо ребенка хранит выражение энтузиазма, блестящие глаза, застывшая улыбка, говорит быстро и без смысл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акие дети выглядят уже не отрешенными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 скорее сверхзахваченными своими собственными стойкими интересами, проявляющимися в стереотипной форме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оявляет экстремальную конфликтность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воеобразие таких детей особенно проявляется в их речи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( многословие, большой словарный запас), не учитывая присутствие собеседни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етверт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500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аиболее легкий вариант аутизма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еразвитость самих форм общения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аграмматичность  реч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удности сосредоточения и организации ребен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едантизм, повышенное  пристрастие к порядку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Задержка психического развития в целом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се отношения с миром ребенок стремится строить через взрослого челове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чины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43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чины </a:t>
            </a: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440" cy="464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Факторы, которые могут вызвать врожденные дефекты – редки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Хими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еск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ие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вещества, такие как тяжелые металлы, пестициды, вакцины - весьма спорны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граниченное развитие (сенсорные лишения, питание / диета) – лишь в некоторых случаях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928760" cy="278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ИНДРОМ РАННЕГО ДЕТСКОГО АУТИЗМ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DSC_03444222"/>
          <p:cNvPicPr/>
          <p:nvPr/>
        </p:nvPicPr>
        <p:blipFill>
          <a:blip r:embed="rId1"/>
          <a:stretch/>
        </p:blipFill>
        <p:spPr>
          <a:xfrm>
            <a:off x="214200" y="214200"/>
            <a:ext cx="3552480" cy="3601800"/>
          </a:xfrm>
          <a:prstGeom prst="rect">
            <a:avLst/>
          </a:prstGeom>
          <a:ln w="9525">
            <a:noFill/>
          </a:ln>
        </p:spPr>
      </p:pic>
      <p:sp>
        <p:nvSpPr>
          <p:cNvPr id="180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утисты-знатоки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5363640" cy="5643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2" name="Содержимое 5" descr="Человек дождя.jpg"/>
          <p:cNvPicPr/>
          <p:nvPr/>
        </p:nvPicPr>
        <p:blipFill>
          <a:blip r:embed="rId1"/>
          <a:stretch/>
        </p:blipFill>
        <p:spPr>
          <a:xfrm>
            <a:off x="5715000" y="1285920"/>
            <a:ext cx="3428640" cy="3560400"/>
          </a:xfrm>
          <a:prstGeom prst="rect">
            <a:avLst/>
          </a:prstGeom>
          <a:ln w="9525">
            <a:noFill/>
          </a:ln>
        </p:spPr>
      </p:pic>
      <p:sp>
        <p:nvSpPr>
          <p:cNvPr id="243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28760" y="5716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Спасибо 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за 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нимание!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писание заболевания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9150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2. Стереотипность поведения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(с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емление к постоянству, сверхпристрастие к различным объектам, сопротивление изменениям в окружающем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3. Необычные реакции на раздражители (дискомфорт или поглощенность впечатлениями)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5. Раннее проявление – до 30-го месяца жизни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    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80520" cy="304560"/>
          </a:xfrm>
          <a:prstGeom prst="actionButtonBackPrevious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">
            <a:hlinkClick r:id="" action="ppaction://hlinkshowjump?jump=nextslide"/>
          </p:cNvPr>
          <p:cNvSpPr/>
          <p:nvPr/>
        </p:nvSpPr>
        <p:spPr>
          <a:xfrm>
            <a:off x="8763120" y="6553080"/>
            <a:ext cx="380520" cy="304560"/>
          </a:xfrm>
          <a:prstGeom prst="actionButtonForwardNext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3640" cy="1085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Классификация общих расстройств психологического развития по 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МК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Б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10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1403280" y="1844640"/>
            <a:ext cx="6552720" cy="4248000"/>
            <a:chOff x="1403280" y="1844640"/>
            <a:chExt cx="6552720" cy="4248000"/>
          </a:xfrm>
        </p:grpSpPr>
        <p:sp>
          <p:nvSpPr>
            <p:cNvPr id="188" name="Rectangle 4"/>
            <p:cNvSpPr/>
            <p:nvPr/>
          </p:nvSpPr>
          <p:spPr>
            <a:xfrm>
              <a:off x="1403280" y="1844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0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Детский аут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1403280" y="234936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1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Атипичный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 аут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1403280" y="2852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2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Синдром Рет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1403280" y="335772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3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Другие дезинтегративные расстройства детского возрас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1403280" y="3860640"/>
              <a:ext cx="6552720" cy="7189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4. 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Г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иперактивные расстройства, сочетающиеся с умствен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отсталостью и стереотипными движениями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1403280" y="472428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5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Синдром Асперге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1403280" y="522936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 84.8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Другие общие расстройства развития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1403280" y="5732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 84.9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Общие расстройства развития, не уточнен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8567640" y="6453360"/>
            <a:ext cx="396360" cy="28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143680" y="3929040"/>
            <a:ext cx="192852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Picture 4" descr="DSC_0213"/>
          <p:cNvPicPr/>
          <p:nvPr/>
        </p:nvPicPr>
        <p:blipFill>
          <a:blip r:embed="rId1"/>
          <a:stretch/>
        </p:blipFill>
        <p:spPr>
          <a:xfrm>
            <a:off x="3784680" y="3286080"/>
            <a:ext cx="5358960" cy="3571560"/>
          </a:xfrm>
          <a:prstGeom prst="rect">
            <a:avLst/>
          </a:prstGeom>
          <a:ln w="9525">
            <a:noFill/>
          </a:ln>
        </p:spPr>
      </p:pic>
      <p:pic>
        <p:nvPicPr>
          <p:cNvPr id="200" name="Picture 5" descr="DSC_0230"/>
          <p:cNvPicPr/>
          <p:nvPr/>
        </p:nvPicPr>
        <p:blipFill>
          <a:blip r:embed="rId2"/>
          <a:stretch/>
        </p:blipFill>
        <p:spPr>
          <a:xfrm>
            <a:off x="0" y="285840"/>
            <a:ext cx="5000400" cy="3333240"/>
          </a:xfrm>
          <a:prstGeom prst="rect">
            <a:avLst/>
          </a:prstGeom>
          <a:ln w="9525">
            <a:noFill/>
          </a:ln>
        </p:spPr>
      </p:pic>
      <p:sp>
        <p:nvSpPr>
          <p:cNvPr id="20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00040" y="428760"/>
            <a:ext cx="8197560" cy="595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етский  аутизм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0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У мальчиков встречается в 3 – 4 раза чаще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Атипичный аутизм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1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00040" y="357120"/>
            <a:ext cx="8268840" cy="5797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индром Ретт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2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240" cy="61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ругие дезинтегративные расстройства детского возраст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3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Гиперактивные расстройства, сочетающиеся с умственной отсталостью и стереотипными движениями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4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Признаки характеризуются названием заболева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57120" y="357120"/>
            <a:ext cx="8329320" cy="5768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индром Аспергер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5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  <Words>2902</Words>
  <Paragraphs>2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47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1</vt:r8>
  </property>
  <property fmtid="{D5CDD505-2E9C-101B-9397-08002B2CF9AE}" pid="3" name="PresentationFormat">
    <vt:lpwstr>Екран (4:3)</vt:lpwstr>
  </property>
  <property fmtid="{D5CDD505-2E9C-101B-9397-08002B2CF9AE}" pid="4" name="Slides">
    <vt:r8>21</vt:r8>
  </property>
</Properties>
</file>